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5B0-150F-41D3-983E-0589539A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9DA-FAF7-4A22-BF28-FB517B7E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FB5-4476-45D2-8C3A-98A7E58E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1C0-8C3B-4A12-A205-3AA59FE5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08D-2A79-4737-A1BA-7721EE2B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577-7240-4089-8BC3-0B850014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63B-0774-4715-A017-AB63BEBD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EA9-768A-472A-8256-0EBDE7A7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70C-DF93-4206-B033-6217B2E6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779-968B-489D-988C-AE45CE1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DEC-B39C-405E-9294-6C4410BD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6EC-A8FF-46B2-9AD4-E45DBAC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5E534-5056-4DE3-A3BF-CF2464C22F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ericancivilwar.com/campaigns/peninsularcampaigns" TargetMode="External"/><Relationship Id="rId2" Type="http://schemas.openxmlformats.org/officeDocument/2006/relationships/hyperlink" Target="http://www.allposters.com/" TargetMode="External"/><Relationship Id="rId3" Type="http://schemas.openxmlformats.org/officeDocument/2006/relationships/hyperlink" Target="http://www.thehistoryofwar.org/peninsularcampaign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Peninsula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is a map of the Peninsula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6172200" cy="527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Peninsula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eninsula Campaign is a series of battles that the union won but the confederates were able to drive them out with their main goal to keep them out of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sualties for the peninsula campaign were 15,849 union and 20,614 for the confede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eninsula campaign lasted from June 25 to July First that is why it is sometimes referred to the Seven Days Batt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 Sources are 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americancivilwar.com/campaigns/peninsularcampa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allposter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thehistoryofwar.org/peninsularcampaig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